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gif" ContentType="image/gif"/>
  <Override PartName="/ppt/media/applause.wav" ContentType="audio/x-wav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1297-91FA-45B6-96F9-2B585BEC0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DCCD-D602-4B91-8A88-11D3FECCE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根的定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E0F7-FFC0-4A48-8F80-8468E1DA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403C-A484-44D4-951B-4D4E210F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C975-0E52-48CF-9390-D7D5D456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C3B-C839-4D7E-9152-06353B7E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A2A5-D9F1-403D-85DC-638252EC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78EA-5301-4C24-86A3-1D9F3050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44A6-D3F7-44EA-91CB-118C12E2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E4FE-7341-421A-BBAC-B8BC472B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7ABC-4B6F-4766-841A-0C02BA27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BA78-886B-451C-BA57-3489F61C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631A-65F3-4FA4-B2D3-7CF2E5A2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5AF7-8F16-48A3-9B58-DFFAE7BC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2824-DCCF-46F0-B329-17BC3CF8E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8.gif"/><Relationship Id="rId16" Type="http://schemas.openxmlformats.org/officeDocument/2006/relationships/audio" Target="../media/applause.wav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9224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楷体"/>
                <a:ea typeface="楷体"/>
              </a:rPr>
              <a:t>15.3.1  </a:t>
            </a:r>
            <a:r>
              <a:rPr b="1" lang="zh-CN" sz="4800" spc="-1" strike="noStrike">
                <a:solidFill>
                  <a:srgbClr val="0d0d0d"/>
                </a:solidFill>
                <a:latin typeface="楷体"/>
                <a:ea typeface="楷体"/>
              </a:rPr>
              <a:t>分式方程（１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5"/>
          <p:cNvGraphicFramePr/>
          <p:nvPr/>
        </p:nvGraphicFramePr>
        <p:xfrm>
          <a:off x="3008160" y="382680"/>
          <a:ext cx="5426280" cy="16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8160" y="382680"/>
                    <a:ext cx="542628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3104640" y="619920"/>
            <a:ext cx="465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解分式方程容易犯的错误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951200" y="1634760"/>
            <a:ext cx="82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(1)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去分母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时，原方程的整式部分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漏乘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994040" y="2885760"/>
            <a:ext cx="856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约去分母后，分子是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多项式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时，没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注意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添括号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因分数线有括号的作用）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1992240" y="44427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(3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增根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不舍掉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1523880" y="2852640"/>
            <a:ext cx="903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、在方程的两边都乘以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楷体"/>
              </a:rPr>
              <a:t>最简公分母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，约去分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楷体"/>
                <a:ea typeface="楷体"/>
              </a:rPr>
              <a:t>     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化成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楷体"/>
              </a:rPr>
              <a:t>整式方程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、解这个整式方程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、把整式方程的解代入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楷体"/>
              </a:rPr>
              <a:t>最简公分母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，如果最简公分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的值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不为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0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，则整式方程的解是原分式方程的解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楷体"/>
                <a:ea typeface="楷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否则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，这个解不是原分式方程的解，必须舍去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、写出原方程的根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828800" y="12528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解分式方程的思路是</a:t>
            </a: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133720" y="914400"/>
            <a:ext cx="1218960" cy="5814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分式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7086600" y="762120"/>
            <a:ext cx="1523880" cy="6426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整式方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267080" y="8380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去分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3352680" y="1371600"/>
            <a:ext cx="3657600" cy="228600"/>
          </a:xfrm>
          <a:prstGeom prst="rightArrow">
            <a:avLst>
              <a:gd name="adj1" fmla="val 50000"/>
              <a:gd name="adj2" fmla="val 400000"/>
            </a:avLst>
          </a:prstGeom>
          <a:solidFill>
            <a:srgbClr val="0099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5232240" y="5927760"/>
            <a:ext cx="4038840" cy="6426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"/>
                <a:ea typeface="楷体"/>
              </a:rPr>
              <a:t>一化二解三检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"/>
          <p:cNvSpPr/>
          <p:nvPr/>
        </p:nvSpPr>
        <p:spPr>
          <a:xfrm>
            <a:off x="2682360" y="22320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解分式方程的一般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1558800" y="34815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5"/>
          <p:cNvGrpSpPr/>
          <p:nvPr/>
        </p:nvGrpSpPr>
        <p:grpSpPr>
          <a:xfrm>
            <a:off x="2208240" y="1763640"/>
            <a:ext cx="7416360" cy="2643840"/>
            <a:chOff x="2208240" y="1763640"/>
            <a:chExt cx="7416360" cy="2643840"/>
          </a:xfrm>
        </p:grpSpPr>
        <p:sp>
          <p:nvSpPr>
            <p:cNvPr id="124" name="Text Box 16"/>
            <p:cNvSpPr/>
            <p:nvPr/>
          </p:nvSpPr>
          <p:spPr>
            <a:xfrm>
              <a:off x="2208240" y="1844640"/>
              <a:ext cx="741636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.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当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m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为何值时，方程                         会产生增根        </a:t>
              </a: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楷体"/>
                  <a:ea typeface="楷体"/>
                </a:rPr>
                <a:t>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Object 17"/>
                <p:cNvSpPr txBox="1"/>
                <p:nvPr/>
              </p:nvSpPr>
              <p:spPr>
                <a:xfrm>
                  <a:off x="6726600" y="1763640"/>
                  <a:ext cx="2752920" cy="94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6" name="WordArt 18"/>
          <p:cNvSpPr txBox="1"/>
          <p:nvPr/>
        </p:nvSpPr>
        <p:spPr>
          <a:xfrm>
            <a:off x="1990800" y="476280"/>
            <a:ext cx="2943000" cy="102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补充练习：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2135160" y="554040"/>
            <a:ext cx="8031240" cy="401436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2.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解关于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的方程                           产生增根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则常数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的值等于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(      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(A)-2    (B)-1   (C ) 1   (D)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5951520" y="1100160"/>
            <a:ext cx="2304360" cy="1178280"/>
            <a:chOff x="5951520" y="1100160"/>
            <a:chExt cx="2304360" cy="1178280"/>
          </a:xfrm>
        </p:grpSpPr>
        <p:grpSp>
          <p:nvGrpSpPr>
            <p:cNvPr id="129" name="Group 5"/>
            <p:cNvGrpSpPr/>
            <p:nvPr/>
          </p:nvGrpSpPr>
          <p:grpSpPr>
            <a:xfrm>
              <a:off x="5951520" y="1100160"/>
              <a:ext cx="823680" cy="1154520"/>
              <a:chOff x="5951520" y="1100160"/>
              <a:chExt cx="823680" cy="1154520"/>
            </a:xfrm>
          </p:grpSpPr>
          <p:sp>
            <p:nvSpPr>
              <p:cNvPr id="130" name="Line 6"/>
              <p:cNvSpPr/>
              <p:nvPr/>
            </p:nvSpPr>
            <p:spPr>
              <a:xfrm>
                <a:off x="5951520" y="1722600"/>
                <a:ext cx="823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7"/>
              <p:cNvSpPr/>
              <p:nvPr/>
            </p:nvSpPr>
            <p:spPr>
              <a:xfrm>
                <a:off x="6026040" y="1100160"/>
                <a:ext cx="724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x-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8"/>
              <p:cNvSpPr/>
              <p:nvPr/>
            </p:nvSpPr>
            <p:spPr>
              <a:xfrm>
                <a:off x="6035400" y="1673280"/>
                <a:ext cx="724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x-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Group 9"/>
            <p:cNvGrpSpPr/>
            <p:nvPr/>
          </p:nvGrpSpPr>
          <p:grpSpPr>
            <a:xfrm>
              <a:off x="7350840" y="1100160"/>
              <a:ext cx="905040" cy="1178280"/>
              <a:chOff x="7350840" y="1100160"/>
              <a:chExt cx="905040" cy="1178280"/>
            </a:xfrm>
          </p:grpSpPr>
          <p:sp>
            <p:nvSpPr>
              <p:cNvPr id="134" name="Text Box 10"/>
              <p:cNvSpPr/>
              <p:nvPr/>
            </p:nvSpPr>
            <p:spPr>
              <a:xfrm>
                <a:off x="7515720" y="1697040"/>
                <a:ext cx="740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x-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11"/>
              <p:cNvSpPr/>
              <p:nvPr/>
            </p:nvSpPr>
            <p:spPr>
              <a:xfrm>
                <a:off x="7350840" y="1722600"/>
                <a:ext cx="823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12"/>
              <p:cNvSpPr/>
              <p:nvPr/>
            </p:nvSpPr>
            <p:spPr>
              <a:xfrm>
                <a:off x="7531920" y="110016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Text Box 13"/>
            <p:cNvSpPr/>
            <p:nvPr/>
          </p:nvSpPr>
          <p:spPr>
            <a:xfrm>
              <a:off x="6775560" y="1432080"/>
              <a:ext cx="57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1990800" y="476280"/>
            <a:ext cx="68421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让我们一起加油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567160" y="386064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"/>
                <a:ea typeface="楷体"/>
              </a:rPr>
              <a:t>作业：习题</a:t>
            </a:r>
            <a:r>
              <a:rPr b="1" lang="en-US" sz="3600" spc="-1" strike="noStrike">
                <a:solidFill>
                  <a:srgbClr val="006600"/>
                </a:solidFill>
                <a:latin typeface="楷体"/>
                <a:ea typeface="楷体"/>
              </a:rPr>
              <a:t>16.3: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楷体"/>
                <a:ea typeface="楷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8161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922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理解什么是分式方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会解分式方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理解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增根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的意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1520" y="41400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自学指导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看课本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49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页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--151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页练习上方，注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记忆分式方程的概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熟记解分式方程的步骤，如何将分式方程的转化为整式方程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解分式方程为什么必须进行检验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理解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增根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产生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2057400" y="2286000"/>
          <a:ext cx="167652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水滴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86000"/>
                    <a:ext cx="16765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3"/>
          <p:cNvGraphicFramePr/>
          <p:nvPr/>
        </p:nvGraphicFramePr>
        <p:xfrm>
          <a:off x="2209680" y="990720"/>
          <a:ext cx="148752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3" descr="水滴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990720"/>
                    <a:ext cx="14875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4"/>
          <p:cNvGraphicFramePr/>
          <p:nvPr/>
        </p:nvGraphicFramePr>
        <p:xfrm>
          <a:off x="2057400" y="3505320"/>
          <a:ext cx="155412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Object 4" descr="水滴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3505320"/>
                    <a:ext cx="15541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5"/>
          <p:cNvGraphicFramePr/>
          <p:nvPr/>
        </p:nvGraphicFramePr>
        <p:xfrm>
          <a:off x="4572000" y="2286000"/>
          <a:ext cx="191448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" name="Object 5" descr="水滴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2286000"/>
                    <a:ext cx="1914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1" name="Object 6"/>
              <p:cNvSpPr txBox="1"/>
              <p:nvPr/>
            </p:nvSpPr>
            <p:spPr>
              <a:xfrm>
                <a:off x="4191120" y="3505320"/>
                <a:ext cx="22748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6</m:t>
                    </m:r>
                    <m:r>
                      <m:t xml:space="preserve">）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7"/>
              <p:cNvSpPr txBox="1"/>
              <p:nvPr/>
            </p:nvSpPr>
            <p:spPr>
              <a:xfrm>
                <a:off x="2057400" y="4648320"/>
                <a:ext cx="1741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5</m:t>
                    </m:r>
                    <m:r>
                      <m:t xml:space="preserve">）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3" name="Object 8"/>
          <p:cNvGraphicFramePr/>
          <p:nvPr/>
        </p:nvGraphicFramePr>
        <p:xfrm>
          <a:off x="4343400" y="4722840"/>
          <a:ext cx="2184480" cy="101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3400" y="4722840"/>
                    <a:ext cx="21844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9"/>
          <p:cNvGraphicFramePr/>
          <p:nvPr/>
        </p:nvGraphicFramePr>
        <p:xfrm>
          <a:off x="4495680" y="990720"/>
          <a:ext cx="2160720" cy="106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6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5680" y="990720"/>
                    <a:ext cx="21607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10"/>
          <p:cNvSpPr/>
          <p:nvPr/>
        </p:nvSpPr>
        <p:spPr>
          <a:xfrm>
            <a:off x="1828800" y="3808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列方程中，哪些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分式方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哪些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整式方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1"/>
          <p:cNvGrpSpPr/>
          <p:nvPr/>
        </p:nvGrpSpPr>
        <p:grpSpPr>
          <a:xfrm>
            <a:off x="7010280" y="838080"/>
            <a:ext cx="2895480" cy="2514600"/>
            <a:chOff x="7010280" y="838080"/>
            <a:chExt cx="2895480" cy="2514600"/>
          </a:xfrm>
        </p:grpSpPr>
        <p:pic>
          <p:nvPicPr>
            <p:cNvPr id="69" name="Picture 12" descr="ri3hqoey[1]"/>
            <p:cNvPicPr/>
            <p:nvPr/>
          </p:nvPicPr>
          <p:blipFill>
            <a:blip r:embed="rId13"/>
            <a:stretch/>
          </p:blipFill>
          <p:spPr>
            <a:xfrm>
              <a:off x="7010280" y="838080"/>
              <a:ext cx="289548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/>
            <p:cNvSpPr/>
            <p:nvPr/>
          </p:nvSpPr>
          <p:spPr>
            <a:xfrm>
              <a:off x="7696080" y="16002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整式方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4"/>
          <p:cNvGrpSpPr/>
          <p:nvPr/>
        </p:nvGrpSpPr>
        <p:grpSpPr>
          <a:xfrm>
            <a:off x="7086600" y="3505320"/>
            <a:ext cx="2819520" cy="2666880"/>
            <a:chOff x="7086600" y="3505320"/>
            <a:chExt cx="2819520" cy="2666880"/>
          </a:xfrm>
        </p:grpSpPr>
        <p:pic>
          <p:nvPicPr>
            <p:cNvPr id="72" name="Picture 15" descr="ri3hqoey[1]"/>
            <p:cNvPicPr/>
            <p:nvPr/>
          </p:nvPicPr>
          <p:blipFill>
            <a:blip r:embed="rId14"/>
            <a:stretch/>
          </p:blipFill>
          <p:spPr>
            <a:xfrm>
              <a:off x="7086600" y="3505320"/>
              <a:ext cx="28195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6"/>
            <p:cNvSpPr/>
            <p:nvPr/>
          </p:nvSpPr>
          <p:spPr>
            <a:xfrm>
              <a:off x="7772400" y="4343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分式方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17" descr="34"/>
          <p:cNvPicPr/>
          <p:nvPr/>
        </p:nvPicPr>
        <p:blipFill>
          <a:blip r:embed="rId15"/>
          <a:stretch/>
        </p:blipFill>
        <p:spPr>
          <a:xfrm>
            <a:off x="15238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55556E-006 L 0.59167 0.12221 E">
                                      <p:cBhvr>
                                        <p:cTn id="4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0.31667 0.53334 E">
                                      <p:cBhvr>
                                        <p:cTn id="45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0.61666 0.34444 E">
                                      <p:cBhvr>
                                        <p:cTn id="49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2222E-006 L 0.35834 0.36667 E">
                                      <p:cBhvr>
                                        <p:cTn id="5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0.60834 -0.24444 E">
                                      <p:cBhvr>
                                        <p:cTn id="57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333E-006 L 0.325 -0.25556 E">
                                      <p:cBhvr>
                                        <p:cTn id="6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0.63334 -0.01111 E">
                                      <p:cBhvr>
                                        <p:cTn id="65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85185E-006 L 0.325 -0.04445 E">
                                      <p:cBhvr>
                                        <p:cTn id="69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279520" y="3716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208240" y="83664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面我们一起研究下怎么样来解分式方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063880" y="2565360"/>
            <a:ext cx="73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程两边同乘以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-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，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4349880" y="3189240"/>
                <a:ext cx="4565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（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6"/>
              <p:cNvSpPr txBox="1"/>
              <p:nvPr/>
            </p:nvSpPr>
            <p:spPr>
              <a:xfrm>
                <a:off x="4151160" y="3789360"/>
                <a:ext cx="10764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Text Box 7"/>
          <p:cNvSpPr/>
          <p:nvPr/>
        </p:nvSpPr>
        <p:spPr>
          <a:xfrm>
            <a:off x="2063880" y="55897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在解分式方程的过程中体现了一个非常重要的数学思想方法：转化的数学思想（化归思想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8"/>
          <p:cNvSpPr txBox="1"/>
          <p:nvPr/>
        </p:nvSpPr>
        <p:spPr>
          <a:xfrm>
            <a:off x="1523880" y="0"/>
            <a:ext cx="2246400" cy="6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探究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208240" y="4508640"/>
            <a:ext cx="734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检验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：将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v=5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代入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20+V)(20-V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所以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v=5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是原分式方程的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0"/>
              <p:cNvSpPr txBox="1"/>
              <p:nvPr/>
            </p:nvSpPr>
            <p:spPr>
              <a:xfrm>
                <a:off x="4224240" y="1413000"/>
                <a:ext cx="273528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9.5"/>
                                  </p:iterate>
                                  <p:childTnLst>
                                    <p:set>
                                      <p:cBhvr>
                                        <p:cTn id="1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79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79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79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2319480" y="260280"/>
            <a:ext cx="5646600" cy="1200240"/>
            <a:chOff x="2319480" y="260280"/>
            <a:chExt cx="5646600" cy="1200240"/>
          </a:xfrm>
        </p:grpSpPr>
        <p:sp>
          <p:nvSpPr>
            <p:cNvPr id="85" name="Text Box 3"/>
            <p:cNvSpPr/>
            <p:nvPr/>
          </p:nvSpPr>
          <p:spPr>
            <a:xfrm>
              <a:off x="2319480" y="403200"/>
              <a:ext cx="200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解分式方程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Object 4"/>
                <p:cNvSpPr txBox="1"/>
                <p:nvPr/>
              </p:nvSpPr>
              <p:spPr>
                <a:xfrm>
                  <a:off x="4870440" y="260280"/>
                  <a:ext cx="3095640" cy="120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7" name="Text Box 5"/>
          <p:cNvSpPr/>
          <p:nvPr/>
        </p:nvSpPr>
        <p:spPr>
          <a:xfrm>
            <a:off x="1952640" y="184320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解：方程两边同乘以最简公分母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(x-5)(X+5)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042080" y="2492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x+5=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421000" y="3251160"/>
            <a:ext cx="85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解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4097520" y="3355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x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2206800" y="421956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检验：将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x=5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代入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x-5)(X+5) =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所以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x=5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不是原分式方程的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4653360" y="5786280"/>
            <a:ext cx="7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∴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原分式方程无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7031160" y="2563920"/>
            <a:ext cx="3492360" cy="1511280"/>
          </a:xfrm>
          <a:prstGeom prst="wedgeEllipseCallout">
            <a:avLst>
              <a:gd name="adj1" fmla="val -65134"/>
              <a:gd name="adj2" fmla="val 456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为什么会产生增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397320" y="944640"/>
            <a:ext cx="518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"/>
          <p:cNvSpPr/>
          <p:nvPr/>
        </p:nvSpPr>
        <p:spPr>
          <a:xfrm>
            <a:off x="2057400" y="4616280"/>
            <a:ext cx="260280" cy="520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"/>
          <p:cNvSpPr/>
          <p:nvPr/>
        </p:nvSpPr>
        <p:spPr>
          <a:xfrm>
            <a:off x="3701880" y="4265640"/>
            <a:ext cx="260640" cy="520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132440" y="820800"/>
            <a:ext cx="352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135160" y="765000"/>
            <a:ext cx="83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增根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在去分母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将分式方程转化为整式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的过程中出现的不适合于原方程的根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063880" y="33782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产生的原因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式方程两边同乘以一个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零因式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后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所得的根是整式方程的根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而不是分式方程的根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所以我们解分式方程时一定要代入最简公分母检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8183520" y="4581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···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656240" y="4581360"/>
            <a:ext cx="207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···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3648240" y="2492280"/>
            <a:ext cx="4824360" cy="581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使最简公分母值为零的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880240" y="1844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···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7464600" y="1844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···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5" name="Object 2"/>
              <p:cNvSpPr txBox="1"/>
              <p:nvPr/>
            </p:nvSpPr>
            <p:spPr>
              <a:xfrm>
                <a:off x="3149640" y="1125360"/>
                <a:ext cx="5394240" cy="16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1</m:t>
                    </m:r>
                    <m:r>
                      <m:t xml:space="preserve">）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Text Box 4"/>
          <p:cNvSpPr/>
          <p:nvPr/>
        </p:nvSpPr>
        <p:spPr>
          <a:xfrm>
            <a:off x="1884240" y="25704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解分式方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2792520" y="446040"/>
                <a:ext cx="5232240" cy="16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2</m:t>
                    </m:r>
                    <m:r>
                      <m:t xml:space="preserve">）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06:02Z</dcterms:created>
  <dc:creator>hdzh</dc:creator>
  <dc:description/>
  <dc:language>en-US</dc:language>
  <cp:lastModifiedBy>长城中学14</cp:lastModifiedBy>
  <dcterms:modified xsi:type="dcterms:W3CDTF">2017-11-23T22:52:30Z</dcterms:modified>
  <cp:revision>54</cp:revision>
  <dc:subject>六十三团中学参赛课件</dc:subject>
  <dc:title>分式方程的应用（１）</dc:title>
</cp:coreProperties>
</file>